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46b86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AA8A-CEC6-4147-9CAD-FFD5C862E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5720-D94D-4E71-94EB-24A8B1E8E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6DB5-8F0B-4272-9594-C876888C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723B-8536-4D3E-B724-C5D231B1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30C2-CE7A-4CA1-918D-0AAB34EA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3382-F901-4BDD-BA98-57FDEFE4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91EE-AE06-49A0-9FAD-F7F4B8B1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D8D9-F43F-4516-87AA-73DD05EA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06A4-6B9D-411D-BF82-D59F3663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0A43-B437-4857-AF75-0D57FC59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8AE5-447D-475C-89A5-DC2DE17E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6006-F74B-4355-BF4D-DD7E226B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B026-BBD0-46BE-AAEC-B1E711B2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B5D5-2C0B-4A61-ADBD-479C3EB4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46b86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c7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AA58-E2CA-4E82-85CC-34FE0F4304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5d1d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5d1d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46b86"/>
                </a:solidFill>
                <a:latin typeface="Cambria"/>
              </a:rPr>
              <a:t>ВЕШТИНА КОМУНИКАЦИЈЕ У ВЕЗИ СА ЗАРАЗНИМ И</a:t>
            </a:r>
            <a:br>
              <a:rPr sz="3600"/>
            </a:br>
            <a:r>
              <a:rPr b="0" lang="ru-RU" sz="3600" spc="-1" strike="noStrike">
                <a:solidFill>
                  <a:srgbClr val="646b86"/>
                </a:solidFill>
                <a:latin typeface="Cambria"/>
              </a:rPr>
              <a:t>ДЕРМАТОВЕНЕРОЛОШКИМ БОЛЕСТИМА</a:t>
            </a:r>
            <a:endParaRPr b="0" lang="en-US" sz="3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68360" y="4419720"/>
            <a:ext cx="46800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Доц др Ана Равић Никол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COVID-19 </a:t>
            </a:r>
            <a:r>
              <a:rPr b="0" lang="sr-RS" sz="4600" spc="-1" strike="noStrike">
                <a:solidFill>
                  <a:srgbClr val="646b86"/>
                </a:solidFill>
                <a:latin typeface="Cambria"/>
              </a:rPr>
              <a:t>стигма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ато што је реч о новој болести са пуно непознан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нксиозност, страх и конфузија су присутни у општој популациј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ви фактори доприносе формирању штетних стереотипо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јединци крију да су болесни да би избегли дискриминациј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 јављају се на време за добијање одговарајућег леч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о води лакше развоју компликација и тежег тока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Rounded Rectangle 3" descr=""/>
          <p:cNvPicPr/>
          <p:nvPr/>
        </p:nvPicPr>
        <p:blipFill>
          <a:blip r:embed="rId1"/>
          <a:stretch/>
        </p:blipFill>
        <p:spPr>
          <a:xfrm>
            <a:off x="517680" y="1676520"/>
            <a:ext cx="4157640" cy="615960"/>
          </a:xfrm>
          <a:prstGeom prst="rect">
            <a:avLst/>
          </a:prstGeom>
          <a:ln w="0">
            <a:noFill/>
          </a:ln>
        </p:spPr>
      </p:pic>
      <p:sp>
        <p:nvSpPr>
          <p:cNvPr id="72" name="Rounded Rectangle 4"/>
          <p:cNvSpPr/>
          <p:nvPr/>
        </p:nvSpPr>
        <p:spPr>
          <a:xfrm>
            <a:off x="539640" y="4221000"/>
            <a:ext cx="4176720" cy="43200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Шта стигма ради појединц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oronavirus"/>
          <p:cNvPicPr/>
          <p:nvPr/>
        </p:nvPicPr>
        <p:blipFill>
          <a:blip r:embed="rId2"/>
          <a:stretch/>
        </p:blipFill>
        <p:spPr>
          <a:xfrm>
            <a:off x="5148360" y="476280"/>
            <a:ext cx="2663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COVID-19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бегавање самоизол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пријављивање случајева (даљи одлазак на посао, школу, факултет..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Више људи бива изложено вирус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аље ширење епидем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le 3"/>
          <p:cNvSpPr/>
          <p:nvPr/>
        </p:nvSpPr>
        <p:spPr>
          <a:xfrm flipV="1" rot="10800000">
            <a:off x="625320" y="1703880"/>
            <a:ext cx="4600800" cy="74628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та стигма ради друштву у цели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Fight COVID-19 Stigma and Discrimination Against Migrants - YouTube"/>
          <p:cNvPicPr/>
          <p:nvPr/>
        </p:nvPicPr>
        <p:blipFill>
          <a:blip r:embed="rId1"/>
          <a:stretch/>
        </p:blipFill>
        <p:spPr>
          <a:xfrm>
            <a:off x="5321160" y="0"/>
            <a:ext cx="382284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646b86"/>
                </a:solidFill>
                <a:latin typeface="Cambria"/>
              </a:rPr>
              <a:t>COVID-19 </a:t>
            </a:r>
            <a:r>
              <a:rPr b="0" lang="sr-RS" sz="3200" spc="-1" strike="noStrike">
                <a:solidFill>
                  <a:srgbClr val="646b86"/>
                </a:solidFill>
                <a:latin typeface="Cambria"/>
              </a:rPr>
              <a:t>: како исправити мит о ковиду, гласине и стереотипове</a:t>
            </a:r>
            <a:endParaRPr b="0" lang="en-US" sz="32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62828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ије сваки кашаљ и кијање ковид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Борити се са страхом од нове болести научно потврђеним чињеницама, не дискриминисањем оболелих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 кривити пацијента зато што је оболео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Why Does It Feel So Amazing To Sneeze? » Science ABC | Muhabarishaji News"/>
          <p:cNvPicPr/>
          <p:nvPr/>
        </p:nvPicPr>
        <p:blipFill>
          <a:blip r:embed="rId1"/>
          <a:stretch/>
        </p:blipFill>
        <p:spPr>
          <a:xfrm>
            <a:off x="684360" y="3429000"/>
            <a:ext cx="259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COVID-19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82" name="Oval 3"/>
          <p:cNvSpPr/>
          <p:nvPr/>
        </p:nvSpPr>
        <p:spPr>
          <a:xfrm>
            <a:off x="539640" y="1628640"/>
            <a:ext cx="7272360" cy="2880000"/>
          </a:xfrm>
          <a:prstGeom prst="ellipse">
            <a:avLst/>
          </a:prstGeom>
          <a:solidFill>
            <a:srgbClr val="e7ccb9"/>
          </a:solidFill>
          <a:ln w="12600">
            <a:solidFill>
              <a:srgbClr val="d08d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0000"/>
                </a:solidFill>
                <a:latin typeface="Calibri"/>
              </a:rPr>
              <a:t>ВИРУСИ НЕ ДИСКРИМИНИШУ, НЕ БИ ТРЕБАЛО НИ 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55520" y="-838080"/>
            <a:ext cx="2619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71640" y="4869000"/>
            <a:ext cx="7129440" cy="158436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Сви могу да оболеле од ковида, без обзира на расу, пол, године живота, образовање и друге квалиф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COVID-19 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What you need to know about COVID-19 - EuroPass"/>
          <p:cNvPicPr/>
          <p:nvPr/>
        </p:nvPicPr>
        <p:blipFill>
          <a:blip r:embed="rId1"/>
          <a:stretch/>
        </p:blipFill>
        <p:spPr>
          <a:xfrm>
            <a:off x="395280" y="1628640"/>
            <a:ext cx="7705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Cambria"/>
              </a:rPr>
              <a:t>ВЕШТИНА КОМУНИКАЦИЈЕ У ВЕЗИ СА ЗАРАЗНИМ И</a:t>
            </a:r>
            <a:br>
              <a:rPr sz="2400"/>
            </a:br>
            <a:r>
              <a:rPr b="0" lang="ru-RU" sz="2400" spc="-1" strike="noStrike">
                <a:solidFill>
                  <a:srgbClr val="646b86"/>
                </a:solidFill>
                <a:latin typeface="Cambria"/>
              </a:rPr>
              <a:t>ДЕРМАТОВЕНЕРОЛОШКИМ БОЛЕСТИМА</a:t>
            </a:r>
            <a:endParaRPr b="0" lang="en-US" sz="24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пацијенту са венеричним обољ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пацијенту са кожним обољ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Однос према COVID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46b86"/>
                </a:solidFill>
                <a:latin typeface="Cambria"/>
              </a:rPr>
              <a:t>Најосетљивија комуникација у клиничкој пракси</a:t>
            </a:r>
            <a:endParaRPr b="0" lang="en-US" sz="3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0000"/>
                </a:solidFill>
                <a:latin typeface="Calibri"/>
              </a:rPr>
              <a:t>Дерматовенеролошка обољ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Све сексуално преносиве болести (скраћено СТ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Паранеопластичне дерматоз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Системске болести везивног тки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Хроничне кожне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бољења инфективне етиолог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ИД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Хепатитис Б и 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4864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30124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који болују од АИДС-а</a:t>
            </a:r>
            <a:endParaRPr b="0" lang="en-US" sz="40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6524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днос лекара се базира на начелу добробити и избегавања штете за болес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аштита приватности и поверљив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бавезно пружање најбоље здравствене зашт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бегавати предрасуде везане за ХИВ позитивне болесн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који болују од АИДС-а</a:t>
            </a:r>
            <a:endParaRPr b="0" lang="en-US" sz="41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иједном пацијенту не оспоравати третман због природе његове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Болест не сме бити разлог за ускраћивање помоћ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ацијент доноси одлуку о свом лечењ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авилно информисати пацијента о природи његове болести, последицама лечења и нелеч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који болују од заразних болести</a:t>
            </a:r>
            <a:endParaRPr b="0" lang="en-US" sz="41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формације о пацијенту објавити само уз допуштење пацијен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УЗЕТАК: ако је угрожено здравље људи из око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ада увек мора да постој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Психолошка реакција на болест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Ш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вер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р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извес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ећај крив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ај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Психолошка реакција на болест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злојађе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влечење у себ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олација од спољњег св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Б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рж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Жеља да се казне друг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sr-CS" sz="4100" spc="-1" strike="noStrike">
                <a:solidFill>
                  <a:srgbClr val="646b86"/>
                </a:solidFill>
                <a:latin typeface="Cambria"/>
              </a:rPr>
              <a:t>К</a:t>
            </a:r>
            <a:r>
              <a:rPr b="0" lang="sr-CS" sz="3600" spc="-1" strike="noStrike">
                <a:solidFill>
                  <a:srgbClr val="646b86"/>
                </a:solidFill>
                <a:latin typeface="Cambria"/>
              </a:rPr>
              <a:t>омуникација у вези са превенцијом заразних болести</a:t>
            </a:r>
            <a:br>
              <a:rPr sz="4100"/>
            </a:br>
            <a:endParaRPr b="0" lang="en-US" sz="3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Једини начин лечења АИДС-а и других СТД је успеш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дравствено васпитањ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форм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дук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естир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5:29:33Z</dcterms:created>
  <dc:creator>Win7</dc:creator>
  <dc:description/>
  <dc:language>en-US</dc:language>
  <cp:lastModifiedBy>Windows User</cp:lastModifiedBy>
  <dcterms:modified xsi:type="dcterms:W3CDTF">2021-01-30T15:25:33Z</dcterms:modified>
  <cp:revision>32</cp:revision>
  <dc:subject/>
  <dc:title>Вештина комуникације у инфектологији и дерматовенерологији</dc:title>
</cp:coreProperties>
</file>